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8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6.xml.rels" ContentType="application/vnd.openxmlformats-package.relationships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4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8.wmf" ContentType="image/x-wmf"/>
  <Override PartName="/ppt/media/image9.wmf" ContentType="image/x-wmf"/>
  <Override PartName="/ppt/media/image1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5BDFA1-4CF4-408A-9FCD-AD8476EC115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143000" y="685800"/>
            <a:ext cx="45673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143000" y="685800"/>
            <a:ext cx="45655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139760" y="685800"/>
            <a:ext cx="45705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139760" y="685800"/>
            <a:ext cx="45705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143000" y="685800"/>
            <a:ext cx="45655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338120" y="914400"/>
            <a:ext cx="41799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143000" y="685800"/>
            <a:ext cx="45705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prawic Use Case??????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338120" y="914400"/>
            <a:ext cx="41799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1143000" y="685800"/>
            <a:ext cx="45705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143000" y="685800"/>
            <a:ext cx="45705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143000" y="685800"/>
            <a:ext cx="45705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1338120" y="914400"/>
            <a:ext cx="41799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609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200840"/>
            <a:ext cx="8609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201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69000" y="1295280"/>
            <a:ext cx="4201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200840"/>
            <a:ext cx="4201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69000" y="4200840"/>
            <a:ext cx="4201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772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8160" y="1295280"/>
            <a:ext cx="2772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279120" y="1295280"/>
            <a:ext cx="2772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200840"/>
            <a:ext cx="2772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8160" y="4200840"/>
            <a:ext cx="2772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279120" y="4200840"/>
            <a:ext cx="2772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1CCB-5B99-4F23-8AB0-40F9EEB1F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60904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Bef>
                <a:spcPts val="8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7382-5FE6-4C0B-B19A-91C0DD409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609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D36B-5843-4570-BC4B-1C31D08AE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2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69000" y="1295280"/>
            <a:ext cx="42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28B7-99E5-4837-9743-1A681F112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D040-D734-4E74-97F5-EA978D71E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6840" y="45684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Bef>
                <a:spcPts val="8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ABD0-D661-48A0-BC0E-E0D43D0DD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201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69000" y="1295280"/>
            <a:ext cx="42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00840"/>
            <a:ext cx="4201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D4D4-81AA-440A-928D-1067F5ED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60904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Bef>
                <a:spcPts val="8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2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69000" y="1295280"/>
            <a:ext cx="4201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869000" y="4200840"/>
            <a:ext cx="4201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BA50-B2BC-45D4-9A77-E8191026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201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69000" y="1295280"/>
            <a:ext cx="4201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200840"/>
            <a:ext cx="8609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B09E-F180-4224-A03C-4BB8D584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609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200840"/>
            <a:ext cx="8609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ABFF-CB85-464C-B312-66111B3C8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201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69000" y="1295280"/>
            <a:ext cx="4201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200840"/>
            <a:ext cx="4201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869000" y="4200840"/>
            <a:ext cx="4201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38EC-061F-4BEF-BFB5-CF0CFF77F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772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68160" y="1295280"/>
            <a:ext cx="2772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79120" y="1295280"/>
            <a:ext cx="2772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200840"/>
            <a:ext cx="2772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68160" y="4200840"/>
            <a:ext cx="2772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279120" y="4200840"/>
            <a:ext cx="2772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E61F-36F9-4DAA-BD59-011263A91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609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2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69000" y="1295280"/>
            <a:ext cx="42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6840" y="45684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Bef>
                <a:spcPts val="8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201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9000" y="1295280"/>
            <a:ext cx="42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200840"/>
            <a:ext cx="4201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2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9000" y="1295280"/>
            <a:ext cx="4201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69000" y="4200840"/>
            <a:ext cx="4201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201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69000" y="1295280"/>
            <a:ext cx="4201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00840"/>
            <a:ext cx="8609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200" cy="544680"/>
            <a:chOff x="0" y="0"/>
            <a:chExt cx="9142200" cy="54468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285480" cy="532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12560" y="134640"/>
              <a:ext cx="8729640" cy="273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09320" y="134640"/>
              <a:ext cx="137520" cy="140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47200" y="0"/>
              <a:ext cx="139320" cy="1375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7200" y="134640"/>
              <a:ext cx="139320" cy="140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74320" y="273600"/>
              <a:ext cx="136080" cy="1375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400" y="136080"/>
              <a:ext cx="140760" cy="1375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09320" y="270720"/>
              <a:ext cx="137520" cy="1375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4320" y="408600"/>
              <a:ext cx="136080" cy="1360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609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5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9999cc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9142200" cy="6856560"/>
            <a:chOff x="0" y="0"/>
            <a:chExt cx="9142200" cy="685656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350460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15760" y="1690200"/>
              <a:ext cx="7426440" cy="25329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0" y="1066320"/>
              <a:ext cx="2864520" cy="3155040"/>
              <a:chOff x="0" y="1066320"/>
              <a:chExt cx="2864520" cy="3155040"/>
            </a:xfrm>
          </p:grpSpPr>
          <p:sp>
            <p:nvSpPr>
              <p:cNvPr id="52" name=""/>
              <p:cNvSpPr/>
              <p:nvPr/>
            </p:nvSpPr>
            <p:spPr>
              <a:xfrm>
                <a:off x="572400" y="3580920"/>
                <a:ext cx="575640" cy="6404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714680" y="1689480"/>
                <a:ext cx="573840" cy="642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279520" y="1066320"/>
                <a:ext cx="585000" cy="6343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140480" y="3580920"/>
                <a:ext cx="583200" cy="6404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79520" y="1689480"/>
                <a:ext cx="585000" cy="642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0480" y="2322720"/>
                <a:ext cx="583200" cy="6325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2322720"/>
                <a:ext cx="581760" cy="6325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714680" y="2322720"/>
                <a:ext cx="573840" cy="6325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72400" y="2946240"/>
                <a:ext cx="575640" cy="6436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0480" y="2946240"/>
                <a:ext cx="583200" cy="6436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" name="PlaceHolder 1"/>
          <p:cNvSpPr>
            <a:spLocks noGrp="1"/>
          </p:cNvSpPr>
          <p:nvPr>
            <p:ph type="dt" idx="1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99870D5-D152-44BE-90DC-66FFA0F433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title"/>
          </p:nvPr>
        </p:nvSpPr>
        <p:spPr>
          <a:xfrm>
            <a:off x="2971440" y="1828800"/>
            <a:ext cx="6018120" cy="22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9999cc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hyperlink" Target="http://agentlab.swps.edu.pl/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971800" y="2246760"/>
            <a:ext cx="6019920" cy="137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oftware Agents and Applic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838080" y="4267080"/>
            <a:ext cx="4572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rcin Paprzyc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t Definition (4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609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agreed-on 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agreed-on typ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earchers take various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haracteristic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rom the set proposed for agents and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ake their ow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“definition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alant &amp; Tyburcy, Karpacz, 2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us use basic intu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artif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nom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s user and has delegation to act on her beha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s with environment and other 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b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Agents?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some reason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609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erate where data and/or resources 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 load bala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to combine with GRID compu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sconnected operations and autono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 “on-line” times (ideal for mobile devi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dundancy / fail-safe behavi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agents can “back-up”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ent-Server vs. Mobile Ag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52280" y="3124080"/>
            <a:ext cx="8763120" cy="3115440"/>
            <a:chOff x="152280" y="3124080"/>
            <a:chExt cx="8763120" cy="3115440"/>
          </a:xfrm>
        </p:grpSpPr>
        <p:sp>
          <p:nvSpPr>
            <p:cNvPr id="135" name=""/>
            <p:cNvSpPr/>
            <p:nvPr/>
          </p:nvSpPr>
          <p:spPr>
            <a:xfrm>
              <a:off x="3124080" y="3124080"/>
              <a:ext cx="0" cy="304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152280" y="3200400"/>
              <a:ext cx="8763120" cy="3039120"/>
              <a:chOff x="152280" y="3200400"/>
              <a:chExt cx="8763120" cy="3039120"/>
            </a:xfrm>
          </p:grpSpPr>
          <p:sp>
            <p:nvSpPr>
              <p:cNvPr id="137" name=""/>
              <p:cNvSpPr/>
              <p:nvPr/>
            </p:nvSpPr>
            <p:spPr>
              <a:xfrm>
                <a:off x="1219320" y="3200400"/>
                <a:ext cx="990360" cy="45972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ien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219320" y="5257800"/>
                <a:ext cx="990360" cy="4597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erve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1447920" y="3733560"/>
                <a:ext cx="533160" cy="1447920"/>
                <a:chOff x="1447920" y="3733560"/>
                <a:chExt cx="533160" cy="144792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1447920" y="3733920"/>
                  <a:ext cx="0" cy="1447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V="1">
                  <a:off x="1523880" y="3733560"/>
                  <a:ext cx="0" cy="1447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600200" y="3733920"/>
                  <a:ext cx="0" cy="1447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1676520" y="3733560"/>
                  <a:ext cx="0" cy="1447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752480" y="3733920"/>
                  <a:ext cx="0" cy="1447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flipV="1">
                  <a:off x="1828800" y="3733560"/>
                  <a:ext cx="0" cy="1447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905120" y="3733920"/>
                  <a:ext cx="0" cy="1447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V="1">
                  <a:off x="1981080" y="3733560"/>
                  <a:ext cx="0" cy="1447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" name=""/>
              <p:cNvSpPr/>
              <p:nvPr/>
            </p:nvSpPr>
            <p:spPr>
              <a:xfrm>
                <a:off x="4038480" y="5257800"/>
                <a:ext cx="990720" cy="4597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erve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038480" y="3200400"/>
                <a:ext cx="990720" cy="45972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ien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120920" y="3733920"/>
                <a:ext cx="740160" cy="3682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Agen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495680" y="4191120"/>
                <a:ext cx="0" cy="990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562720" y="5257800"/>
                <a:ext cx="990360" cy="4597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erve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562720" y="3200400"/>
                <a:ext cx="990360" cy="45972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ien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721120" y="4724640"/>
                <a:ext cx="740160" cy="3682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Agen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867280" y="5105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5943600" y="510516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019920" y="5105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V="1">
                <a:off x="6095880" y="510516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172200" y="5105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6248520" y="510516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086600" y="5257800"/>
                <a:ext cx="990720" cy="4597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erve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086600" y="3200400"/>
                <a:ext cx="990720" cy="45972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ien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245000" y="4724640"/>
                <a:ext cx="740160" cy="3682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Agen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7620120" y="3733920"/>
                <a:ext cx="0" cy="91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52280" y="4419720"/>
                <a:ext cx="8763120" cy="0"/>
              </a:xfrm>
              <a:prstGeom prst="line">
                <a:avLst/>
              </a:prstGeom>
              <a:ln cap="rnd" w="255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144080" y="5840640"/>
                <a:ext cx="1153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Narrow"/>
                  </a:rPr>
                  <a:t>Traditiona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955400" y="5840640"/>
                <a:ext cx="2055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Narrow"/>
                  </a:rPr>
                  <a:t>Mobile Agent-Base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609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bile agen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gent th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move from one computer to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-directed / autonomous / mix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s of Agent Syste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2242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t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rch/brow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eting assist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comme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-comme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48320" y="1295280"/>
            <a:ext cx="4417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icity tr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commerce tr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and resourc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ion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ly chain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 system sim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ew General Criticism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there is mor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609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thing that can be done with agents can be done some other wa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been around for years and… noth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ve to prot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t(s) from agent(s) / agent(s) from host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nt(s) from agent(s) /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one step removed from a vi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In many cases agents were not necessa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WHAT, NO DEFINI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ssible Respons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609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nts as a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unified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 and virus-related concerns can be address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an it be worse than Windows™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nt systems are (and depend on) “bleeding edge” technology that “disappears”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glets, BlueStone, e-speak,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way to establish usability / worthlessness until full blown implementations tri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al Criticis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609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5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wana, Ndumu (1999) A perspective on software agents research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Knowledge Engineering Revie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14 (2), pp. 1–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95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discovery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 algn="just">
              <a:lnSpc>
                <a:spcPct val="95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the relevant data and how to keep up with the dynamics of the Intern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95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 algn="just">
              <a:lnSpc>
                <a:spcPct val="95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make different systems (including agent-agent and agent-non-agent) to communicate with each oth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95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acy softwar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 algn="just">
              <a:lnSpc>
                <a:spcPct val="95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make agents interact with legacy system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95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soning and coordination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 algn="just">
              <a:lnSpc>
                <a:spcPct val="95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reason about the retrieved data (“AI”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95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tology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 algn="just">
              <a:lnSpc>
                <a:spcPct val="95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make different systems understand each oth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-years Later (1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609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tantial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discove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/ text mining / fil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L + FIPA SL standards by FI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acy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– wrap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soning and coord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ot of progress in various areas of 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-years Later (2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609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tolog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t research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anticWeb supported by 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of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of “demarcated” web-pages /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al mass of available data required to establish for each proposed approach 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as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ng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akn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nts proposed as a natural technology for the SemanticWeb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Hendler, 200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t Environment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out of 80+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609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let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BM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vely sim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y popular in the pa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yag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Object Space)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cordi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itsubishi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?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pular in the pa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sshopp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KV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ked very we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came somewhat pop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MAD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UWF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esting, developed in the academia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suppor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JADE </a:t>
            </a:r>
            <a:r>
              <a:rPr b="0" lang="en-US" sz="2800" spc="-1" strike="noStrike">
                <a:solidFill>
                  <a:srgbClr val="cc0066"/>
                </a:solidFill>
                <a:latin typeface="Arial"/>
              </a:rPr>
              <a:t>(Telecom Italia – TILA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build around FIPA standard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long-term € perspectiv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00040" y="2330280"/>
            <a:ext cx="4343400" cy="15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art I</a:t>
            </a:r>
            <a:br>
              <a:rPr sz="4800"/>
            </a:br>
            <a:r>
              <a:rPr b="0" lang="en-US" sz="5400" spc="-1" strike="noStrike">
                <a:solidFill>
                  <a:srgbClr val="b7e7ff"/>
                </a:solidFill>
                <a:latin typeface="Arial"/>
              </a:rPr>
              <a:t>Introduction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aring Agent Environments (1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609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as an “exercise”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illustrate the diversity of the environments and their cap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based on manual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it reli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sed in 2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data about JADE is from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y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or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sshop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l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aring Agent Environments (2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609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Garbage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te creation of ag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Java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Object mo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Agent mo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Cl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Communication mech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nt collab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Garbage Collec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609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For some agents “when work done” they must be remo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Voyager deletes an agent as soon as no references to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Grasshopper agent persists unless it is removed explicitly by itself, by the external software component, or by the u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glets and Concordia agents must be explicitly remo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DE agent must be explicitly removed or programmed to kill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mote Creation of Agen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609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ability of creating agents remotely by sending only necessary 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yager, Grasshopper, Aglets and JADE support remote agent cre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ordia does no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Java Suppor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609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All five mobile agent environments use commonly available JVM from Sun Micro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Grasshopper and Voyager support Java 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Aglets and Concordia need Java 1 to run (new version of software may be Java 2 bas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there be a new vers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for Aglets, but … WHO CAR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al requirements J2SE/.Net (JDK 1.4), PersonalJava/ J2ME CDC, MID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Object Mobilit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609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transfer data objects through the network without the agent traveling itsel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traffic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yager supports object mo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s – objects can be “manually” serialized within ACL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Agent Mobilit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609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migrate from one host to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types of migration: strong and w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ng migratio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gent migrates together with its complete execution st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 migratio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agent migrates with its data sta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ot the stack inform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yager, Grasshopper, Concordia, Aglets and JADE support weak migratio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n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MADS support strong mo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536040" y="1294920"/>
            <a:ext cx="8055000" cy="41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create a copy of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“parallel computing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ularly benefi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resides in a physically distributed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base resides on a shared memory multiproc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five environments support cl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Clonin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  <a:ea typeface="Arial Unicode MS"/>
              </a:rPr>
              <a:t>Communication Mechanisms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69800"/>
            <a:ext cx="805644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7080" indent="-307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Static and mobile agents communicate to solve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7080" indent="-2556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types of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ynchronous (waits for answer/confirm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synchronous (can continue work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dynamic (communication follows the mobile ag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7080" indent="-2556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in Concordia agent groups facilitate synchronous and asynchronous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7080" indent="-2556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Aglets support synchronous and asynchronous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7080" indent="-2556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Voyager, Grasshopper and JADE support synchronous, asynchronous, and dynamic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762120" y="11430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Agent teams need support for collab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Concordi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strongest collaboration fac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agents form agent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Java distributed objec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ccess them via Java’s Remote Method Invocation (RMI) facility to perform data ex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Aglets agents negotiate and schedule distributed meetin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Grasshopper, Voyager and JADE do not support a specific model for 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collaboration can be achieved via mess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Agent Collabor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 Wish Upon a Star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609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perfect servant (in the morn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5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ized news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5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ther fore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5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ily sche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5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ce what to wear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network administr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5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us moni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5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 patch distribution /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similar sit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5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l a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5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nts in e-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6400" y="1295280"/>
            <a:ext cx="8607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For apparent reasons the security measures are necessa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Grasshopper and Voyager support security by implementing authentication, transmission control and confidentiality of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Concordia and Aglets supports authentication and transmission integ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Concordia provides storage protection for operating without a secure fil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JADE securit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d by JADE-S add-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s: agents authentication, acts permissions, message integrity and confidentiality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ations: communication can be only encrypted but not signed, no mobility related permissions, security features mostly not accessible on MIDP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Securit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 specification metho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609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grammatic models and methods in software engineering context – based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L (A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DI and oth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l specifications and verification in a software engineering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ications existing formal specification langu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Z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-centric appro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 (e.g. temporal logic) used in specification and proof of agent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calculus based appro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sions of PI-calcu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312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aia metodolog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539640" y="1079640"/>
            <a:ext cx="8101080" cy="48402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-360" y="6119640"/>
            <a:ext cx="906156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ia – thinking about building agent-based systems as a process of organizational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3680" y="347400"/>
            <a:ext cx="8223120" cy="8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aia detail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604360" cy="54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6880" indent="-3268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s deﬁned by four attributes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sponsibilities, permissions, activities, protoc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sponsibility – func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ermissions – the “rights” associated with a r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ctivities of a role are computations that may be carried out by the agent without interacting with other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otocols – deﬁne the way that it can interact with other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482400"/>
            <a:ext cx="853596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56840" y="1295280"/>
            <a:ext cx="4202280" cy="55641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869000" y="1294920"/>
            <a:ext cx="42019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457200" y="425520"/>
            <a:ext cx="8305920" cy="642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02760"/>
            <a:ext cx="8221680" cy="9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ddleware with BDI : Jadex, JACK,..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96360" y="1142640"/>
            <a:ext cx="86029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6880" indent="-3268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D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(Bratm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efs – the information an agent has about its environment, which may be 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ir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ose things that the agent would like to achie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tentions are those things that agent is either committed to doing (intending to) or committed for bringing about (intending th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ing formal models of 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ing model of agnet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ption of agent internal state from its behavi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1440"/>
            <a:ext cx="821844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57200" y="428760"/>
            <a:ext cx="8686800" cy="59068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720720" y="6480000"/>
            <a:ext cx="8280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vsis-www.informatik.uni-hamburg.de/projects/jadex/features.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609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-380880" y="669960"/>
            <a:ext cx="853416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79640" indent="0">
              <a:lnSpc>
                <a:spcPct val="66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metheu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609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5440" indent="-32544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s development of intelligent ag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s “start-to-end”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experts can us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s hierarchical structuring mech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an iterative software engineering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s (automatable) cross checking of design artif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312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457200" y="415800"/>
            <a:ext cx="8610480" cy="644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does exist in the world?  (1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0904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dus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ll kept industrial secr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subishi used Concordia for 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imler-Chrysler – production flow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type –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 product – 2005/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in 10-20% effectiveness clai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eries in East Australia – flow of w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ed using ag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ed using 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namic transport optim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cost reduction – about 1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t Technology Metaphors (1)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609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sed on human ag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vel 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urance 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al-estate 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sonal assistant (a.k.a. secreta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ult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g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specialized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resent our interes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 / filter / customize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. Maes, Agents that Reduce Work and Information Overload, CACM, 37, 1994, 31-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487800"/>
            <a:ext cx="8535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does exist in the world?  (2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610480" cy="37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ademic paper cont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regard for FIPA standa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why? better n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meworks and UML diagram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edious, ?easy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environmen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as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een-shots of the interfa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as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implementation resul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lmost eas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ntinued implementation effort (difficul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systems with few agents only</a:t>
            </a: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(why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488160"/>
            <a:ext cx="8535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Few Agents Only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610480" cy="556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9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1038240"/>
                <a:tab algn="l" pos="1952640"/>
                <a:tab algn="l" pos="2867040"/>
                <a:tab algn="l" pos="3781440"/>
                <a:tab algn="l" pos="4695840"/>
                <a:tab algn="l" pos="5610240"/>
                <a:tab algn="l" pos="6524640"/>
                <a:tab algn="l" pos="7439040"/>
                <a:tab algn="l" pos="8353440"/>
                <a:tab algn="l" pos="9267840"/>
                <a:tab algn="l" pos="1018224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Size matte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6480" indent="-436680">
              <a:lnSpc>
                <a:spcPct val="9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038240"/>
                <a:tab algn="l" pos="1952640"/>
                <a:tab algn="l" pos="2867040"/>
                <a:tab algn="l" pos="3781440"/>
                <a:tab algn="l" pos="4695840"/>
                <a:tab algn="l" pos="5610240"/>
                <a:tab algn="l" pos="6524640"/>
                <a:tab algn="l" pos="7439040"/>
                <a:tab algn="l" pos="8353440"/>
                <a:tab algn="l" pos="9267840"/>
                <a:tab algn="l" pos="1018224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ot of ag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6666ff"/>
                </a:solidFill>
                <a:latin typeface="Arial"/>
              </a:rPr>
              <a:t>- how man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6480" indent="-436680">
              <a:lnSpc>
                <a:spcPct val="9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038240"/>
                <a:tab algn="l" pos="1952640"/>
                <a:tab algn="l" pos="2867040"/>
                <a:tab algn="l" pos="3781440"/>
                <a:tab algn="l" pos="4695840"/>
                <a:tab algn="l" pos="5610240"/>
                <a:tab algn="l" pos="6524640"/>
                <a:tab algn="l" pos="7439040"/>
                <a:tab algn="l" pos="8353440"/>
                <a:tab algn="l" pos="9267840"/>
                <a:tab algn="l" pos="1018224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ot of messag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6666ff"/>
                </a:solidFill>
                <a:latin typeface="Arial"/>
              </a:rPr>
              <a:t>- how man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1038240"/>
                <a:tab algn="l" pos="1952640"/>
                <a:tab algn="l" pos="2867040"/>
                <a:tab algn="l" pos="3781440"/>
                <a:tab algn="l" pos="4695840"/>
                <a:tab algn="l" pos="5610240"/>
                <a:tab algn="l" pos="6524640"/>
                <a:tab algn="l" pos="7439040"/>
                <a:tab algn="l" pos="8353440"/>
                <a:tab algn="l" pos="9267840"/>
                <a:tab algn="l" pos="101822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lnSpc>
                <a:spcPct val="9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1038240"/>
                <a:tab algn="l" pos="1952640"/>
                <a:tab algn="l" pos="2867040"/>
                <a:tab algn="l" pos="3781440"/>
                <a:tab algn="l" pos="4695840"/>
                <a:tab algn="l" pos="5610240"/>
                <a:tab algn="l" pos="6524640"/>
                <a:tab algn="l" pos="7439040"/>
                <a:tab algn="l" pos="8353440"/>
                <a:tab algn="l" pos="9267840"/>
                <a:tab algn="l" pos="1018224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for experi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6480" indent="-436680">
              <a:lnSpc>
                <a:spcPct val="95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038240"/>
                <a:tab algn="l" pos="1952640"/>
                <a:tab algn="l" pos="2867040"/>
                <a:tab algn="l" pos="3781440"/>
                <a:tab algn="l" pos="4695840"/>
                <a:tab algn="l" pos="5610240"/>
                <a:tab algn="l" pos="6524640"/>
                <a:tab algn="l" pos="7439040"/>
                <a:tab algn="l" pos="8353440"/>
                <a:tab algn="l" pos="9267840"/>
                <a:tab algn="l" pos="1018224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“benchmarks” for agent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6480" indent="-436680">
              <a:lnSpc>
                <a:spcPct val="95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038240"/>
                <a:tab algn="l" pos="1952640"/>
                <a:tab algn="l" pos="2867040"/>
                <a:tab algn="l" pos="3781440"/>
                <a:tab algn="l" pos="4695840"/>
                <a:tab algn="l" pos="5610240"/>
                <a:tab algn="l" pos="6524640"/>
                <a:tab algn="l" pos="7439040"/>
                <a:tab algn="l" pos="8353440"/>
                <a:tab algn="l" pos="9267840"/>
                <a:tab algn="l" pos="1018224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nt system “scalability” not “fashionabl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1038240"/>
                <a:tab algn="l" pos="1952640"/>
                <a:tab algn="l" pos="2867040"/>
                <a:tab algn="l" pos="3781440"/>
                <a:tab algn="l" pos="4695840"/>
                <a:tab algn="l" pos="5610240"/>
                <a:tab algn="l" pos="6524640"/>
                <a:tab algn="l" pos="7439040"/>
                <a:tab algn="l" pos="8353440"/>
                <a:tab algn="l" pos="9267840"/>
                <a:tab algn="l" pos="101822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1038240"/>
                <a:tab algn="l" pos="1952640"/>
                <a:tab algn="l" pos="2867040"/>
                <a:tab algn="l" pos="3781440"/>
                <a:tab algn="l" pos="4695840"/>
                <a:tab algn="l" pos="5610240"/>
                <a:tab algn="l" pos="6524640"/>
                <a:tab algn="l" pos="7439040"/>
                <a:tab algn="l" pos="8353440"/>
                <a:tab algn="l" pos="9267840"/>
                <a:tab algn="l" pos="1018224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6480" indent="-436680">
              <a:lnSpc>
                <a:spcPct val="9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038240"/>
                <a:tab algn="l" pos="1952640"/>
                <a:tab algn="l" pos="2867040"/>
                <a:tab algn="l" pos="3781440"/>
                <a:tab algn="l" pos="4695840"/>
                <a:tab algn="l" pos="5610240"/>
                <a:tab algn="l" pos="6524640"/>
                <a:tab algn="l" pos="7439040"/>
                <a:tab algn="l" pos="8353440"/>
                <a:tab algn="l" pos="9267840"/>
                <a:tab algn="l" pos="1018224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1" lang="en-US" sz="2800" spc="-1" strike="noStrike">
                <a:solidFill>
                  <a:srgbClr val="6666ff"/>
                </a:solidFill>
                <a:latin typeface="Arial"/>
              </a:rPr>
              <a:t>do 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ry to establish “benchmark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6480" indent="-436680">
              <a:lnSpc>
                <a:spcPct val="9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038240"/>
                <a:tab algn="l" pos="1952640"/>
                <a:tab algn="l" pos="2867040"/>
                <a:tab algn="l" pos="3781440"/>
                <a:tab algn="l" pos="4695840"/>
                <a:tab algn="l" pos="5610240"/>
                <a:tab algn="l" pos="6524640"/>
                <a:tab algn="l" pos="7439040"/>
                <a:tab algn="l" pos="8353440"/>
                <a:tab algn="l" pos="9267840"/>
                <a:tab algn="l" pos="1018224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 a “feeling”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66ff"/>
                </a:solidFill>
                <a:latin typeface="Arial"/>
              </a:rPr>
              <a:t>how large can we ge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487080"/>
            <a:ext cx="8535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perimental Setup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61048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1038240"/>
                <a:tab algn="l" pos="1952640"/>
                <a:tab algn="l" pos="2867040"/>
                <a:tab algn="l" pos="3781440"/>
                <a:tab algn="l" pos="4695840"/>
                <a:tab algn="l" pos="5610240"/>
                <a:tab algn="l" pos="6524640"/>
                <a:tab algn="l" pos="7439040"/>
                <a:tab algn="l" pos="8353440"/>
                <a:tab algn="l" pos="9267840"/>
                <a:tab algn="l" pos="1018224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DE 3.1 agent plat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1038240"/>
                <a:tab algn="l" pos="1952640"/>
                <a:tab algn="l" pos="2867040"/>
                <a:tab algn="l" pos="3781440"/>
                <a:tab algn="l" pos="4695840"/>
                <a:tab algn="l" pos="5610240"/>
                <a:tab algn="l" pos="6524640"/>
                <a:tab algn="l" pos="7439040"/>
                <a:tab algn="l" pos="8353440"/>
                <a:tab algn="l" pos="9267840"/>
                <a:tab algn="l" pos="1018224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6480" indent="-43668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038240"/>
                <a:tab algn="l" pos="1952640"/>
                <a:tab algn="l" pos="2867040"/>
                <a:tab algn="l" pos="3781440"/>
                <a:tab algn="l" pos="4695840"/>
                <a:tab algn="l" pos="5610240"/>
                <a:tab algn="l" pos="6524640"/>
                <a:tab algn="l" pos="7439040"/>
                <a:tab algn="l" pos="8353440"/>
                <a:tab algn="l" pos="9267840"/>
                <a:tab algn="l" pos="1018224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n work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03200" indent="-393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038240"/>
                <a:tab algn="l" pos="1952640"/>
                <a:tab algn="l" pos="2867040"/>
                <a:tab algn="l" pos="3781440"/>
                <a:tab algn="l" pos="4695840"/>
                <a:tab algn="l" pos="5610240"/>
                <a:tab algn="l" pos="6524640"/>
                <a:tab algn="l" pos="7439040"/>
                <a:tab algn="l" pos="8353440"/>
                <a:tab algn="l" pos="9267840"/>
                <a:tab algn="l" pos="1018224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ltraSparc III (300 MHz) + 198 Mbytes of 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6480" indent="-43668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038240"/>
                <a:tab algn="l" pos="1952640"/>
                <a:tab algn="l" pos="2867040"/>
                <a:tab algn="l" pos="3781440"/>
                <a:tab algn="l" pos="4695840"/>
                <a:tab algn="l" pos="5610240"/>
                <a:tab algn="l" pos="6524640"/>
                <a:tab algn="l" pos="7439040"/>
                <a:tab algn="l" pos="8353440"/>
                <a:tab algn="l" pos="9267840"/>
                <a:tab algn="l" pos="1018224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03200" indent="-393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038240"/>
                <a:tab algn="l" pos="1952640"/>
                <a:tab algn="l" pos="2867040"/>
                <a:tab algn="l" pos="3781440"/>
                <a:tab algn="l" pos="4695840"/>
                <a:tab algn="l" pos="5610240"/>
                <a:tab algn="l" pos="6524640"/>
                <a:tab algn="l" pos="7439040"/>
                <a:tab algn="l" pos="8353440"/>
                <a:tab algn="l" pos="9267840"/>
                <a:tab algn="l" pos="1018224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tium II (120 MHz) + 48 Mbytes of 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6480" indent="-43668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038240"/>
                <a:tab algn="l" pos="1952640"/>
                <a:tab algn="l" pos="2867040"/>
                <a:tab algn="l" pos="3781440"/>
                <a:tab algn="l" pos="4695840"/>
                <a:tab algn="l" pos="5610240"/>
                <a:tab algn="l" pos="6524640"/>
                <a:tab algn="l" pos="7439040"/>
                <a:tab algn="l" pos="8353440"/>
                <a:tab algn="l" pos="9267840"/>
                <a:tab algn="l" pos="1018224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 Swit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03200" indent="-393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038240"/>
                <a:tab algn="l" pos="1952640"/>
                <a:tab algn="l" pos="2867040"/>
                <a:tab algn="l" pos="3781440"/>
                <a:tab algn="l" pos="4695840"/>
                <a:tab algn="l" pos="5610240"/>
                <a:tab algn="l" pos="6524640"/>
                <a:tab algn="l" pos="7439040"/>
                <a:tab algn="l" pos="8353440"/>
                <a:tab algn="l" pos="9267840"/>
                <a:tab algn="l" pos="1018224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 Mbit/s full back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6480" indent="-4366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038240"/>
                <a:tab algn="l" pos="1952640"/>
                <a:tab algn="l" pos="2867040"/>
                <a:tab algn="l" pos="3781440"/>
                <a:tab algn="l" pos="4695840"/>
                <a:tab algn="l" pos="5610240"/>
                <a:tab algn="l" pos="6524640"/>
                <a:tab algn="l" pos="7439040"/>
                <a:tab algn="l" pos="8353440"/>
                <a:tab algn="l" pos="9267840"/>
                <a:tab algn="l" pos="1018224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machines also trie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6699ff"/>
                </a:solidFill>
                <a:latin typeface="Arial"/>
              </a:rPr>
              <a:t>http://agentlab.swps.edu.p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3200" indent="-393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038240"/>
                <a:tab algn="l" pos="1952640"/>
                <a:tab algn="l" pos="2867040"/>
                <a:tab algn="l" pos="3781440"/>
                <a:tab algn="l" pos="4695840"/>
                <a:tab algn="l" pos="5610240"/>
                <a:tab algn="l" pos="6524640"/>
                <a:tab algn="l" pos="7439040"/>
                <a:tab algn="l" pos="8353440"/>
                <a:tab algn="l" pos="9267840"/>
                <a:tab algn="l" pos="1018224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. Chmiel, M. Gawinecki, P. Kaczmarek, M. Szymczak, M. Paprzycki (2005) Efficiency of JADE Agent Platform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cientific Programming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(2), 159-17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03200" indent="-393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038240"/>
                <a:tab algn="l" pos="1952640"/>
                <a:tab algn="l" pos="2867040"/>
                <a:tab algn="l" pos="3781440"/>
                <a:tab algn="l" pos="4695840"/>
                <a:tab algn="l" pos="5610240"/>
                <a:tab algn="l" pos="6524640"/>
                <a:tab algn="l" pos="7439040"/>
                <a:tab algn="l" pos="8353440"/>
                <a:tab algn="l" pos="9267840"/>
                <a:tab algn="l" pos="1018224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. Chmiel, D. Tomiak, M. Gawinecki, P. Kaczmarek, M. Szymczak, M. Paprzycki (2004) Testing the Efficiency of JADE Agent Platform. In: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roceedings of the ISPDC 2004 Conferen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IEEE Computer Society Press, Los Alamitos, CA, 49-5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464040"/>
            <a:ext cx="853596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Spamming Test (1)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4038480" y="1494000"/>
            <a:ext cx="5104080" cy="3095640"/>
            <a:chOff x="4038480" y="1494000"/>
            <a:chExt cx="5104080" cy="3095640"/>
          </a:xfrm>
        </p:grpSpPr>
        <p:sp>
          <p:nvSpPr>
            <p:cNvPr id="237" name=""/>
            <p:cNvSpPr/>
            <p:nvPr/>
          </p:nvSpPr>
          <p:spPr>
            <a:xfrm>
              <a:off x="4038480" y="1494000"/>
              <a:ext cx="5104080" cy="3095640"/>
            </a:xfrm>
            <a:prstGeom prst="roundRect">
              <a:avLst>
                <a:gd name="adj" fmla="val 5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860440" y="1858680"/>
              <a:ext cx="1823040" cy="36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440" rIns="73440" tIns="36720" bIns="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Spamming directi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4403520" y="1494000"/>
              <a:ext cx="1456560" cy="1454760"/>
              <a:chOff x="4403520" y="1494000"/>
              <a:chExt cx="1456560" cy="1454760"/>
            </a:xfrm>
          </p:grpSpPr>
          <p:sp>
            <p:nvSpPr>
              <p:cNvPr id="240" name=""/>
              <p:cNvSpPr/>
              <p:nvPr/>
            </p:nvSpPr>
            <p:spPr>
              <a:xfrm>
                <a:off x="4403520" y="1494000"/>
                <a:ext cx="1456560" cy="1454760"/>
              </a:xfrm>
              <a:prstGeom prst="rect">
                <a:avLst/>
              </a:prstGeom>
              <a:solidFill>
                <a:srgbClr val="eaeaea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3440" rIns="73440" tIns="36720" bIns="367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Computer 1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403520" y="1858320"/>
                <a:ext cx="1456560" cy="545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3440" rIns="73440" tIns="36720" bIns="367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Spammer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403520" y="2403360"/>
                <a:ext cx="1456560" cy="545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3440" rIns="73440" tIns="36720" bIns="367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User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6042960" y="3132720"/>
              <a:ext cx="1456560" cy="1455120"/>
              <a:chOff x="6042960" y="3132720"/>
              <a:chExt cx="1456560" cy="1455120"/>
            </a:xfrm>
          </p:grpSpPr>
          <p:sp>
            <p:nvSpPr>
              <p:cNvPr id="244" name=""/>
              <p:cNvSpPr/>
              <p:nvPr/>
            </p:nvSpPr>
            <p:spPr>
              <a:xfrm>
                <a:off x="6042960" y="3132720"/>
                <a:ext cx="1456560" cy="1455120"/>
              </a:xfrm>
              <a:prstGeom prst="rect">
                <a:avLst/>
              </a:prstGeom>
              <a:solidFill>
                <a:srgbClr val="eaeaea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3440" rIns="73440" tIns="36720" bIns="367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Computer 2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042960" y="3495600"/>
                <a:ext cx="1456560" cy="545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3440" rIns="73440" tIns="36720" bIns="367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Spammer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042960" y="4042440"/>
                <a:ext cx="1456560" cy="545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3440" rIns="73440" tIns="36720" bIns="367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User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7683840" y="1494000"/>
              <a:ext cx="1456920" cy="1454760"/>
              <a:chOff x="7683840" y="1494000"/>
              <a:chExt cx="1456920" cy="1454760"/>
            </a:xfrm>
          </p:grpSpPr>
          <p:sp>
            <p:nvSpPr>
              <p:cNvPr id="248" name=""/>
              <p:cNvSpPr/>
              <p:nvPr/>
            </p:nvSpPr>
            <p:spPr>
              <a:xfrm>
                <a:off x="7683840" y="1494000"/>
                <a:ext cx="1456920" cy="1454760"/>
              </a:xfrm>
              <a:prstGeom prst="rect">
                <a:avLst/>
              </a:prstGeom>
              <a:solidFill>
                <a:srgbClr val="eaeaea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3440" rIns="73440" tIns="36720" bIns="367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Computer 3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683840" y="1858320"/>
                <a:ext cx="1456920" cy="545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3440" rIns="73440" tIns="36720" bIns="367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Spammer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83840" y="2403360"/>
                <a:ext cx="1456920" cy="545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3440" rIns="73440" tIns="36720" bIns="367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User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51" name=""/>
            <p:cNvCxnSpPr>
              <a:stCxn id="241" idx="1"/>
              <a:endCxn id="246" idx="1"/>
            </p:cNvCxnSpPr>
            <p:nvPr/>
          </p:nvCxnSpPr>
          <p:spPr>
            <a:xfrm>
              <a:off x="4403160" y="2129760"/>
              <a:ext cx="1641240" cy="21855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41" idx="3"/>
              <a:endCxn id="250" idx="1"/>
            </p:cNvCxnSpPr>
            <p:nvPr/>
          </p:nvCxnSpPr>
          <p:spPr>
            <a:xfrm>
              <a:off x="5861520" y="2130120"/>
              <a:ext cx="1824120" cy="546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3"/>
              <a:endCxn id="242" idx="3"/>
            </p:cNvCxnSpPr>
            <p:nvPr/>
          </p:nvCxnSpPr>
          <p:spPr>
            <a:xfrm>
              <a:off x="5861880" y="2130120"/>
              <a:ext cx="2160" cy="546480"/>
            </a:xfrm>
            <a:prstGeom prst="bentConnector3">
              <a:avLst>
                <a:gd name="adj1" fmla="val 4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3733920" y="4629240"/>
            <a:ext cx="5410080" cy="222876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304920" y="1676520"/>
            <a:ext cx="3657600" cy="49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80000"/>
              </a:lnSpc>
              <a:spcBef>
                <a:spcPts val="675"/>
              </a:spcBef>
              <a:buClr>
                <a:srgbClr val="00007d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ach machin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spammer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75"/>
              </a:spcBef>
              <a:buClr>
                <a:srgbClr val="00007d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pammers send 5000 ACL messages to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users on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machin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75"/>
              </a:spcBef>
              <a:buClr>
                <a:srgbClr val="00007d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sers process messag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ssages stored in the queu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75"/>
              </a:spcBef>
              <a:buClr>
                <a:srgbClr val="00007d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essage size 300 ASCI characters + ACL wrapp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Spamming Test (2)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4572000" y="1447920"/>
          <a:ext cx="4572000" cy="344808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</a:tblGrid>
              <a:tr h="915120">
                <a:tc>
                  <a:txBody>
                    <a:bodyPr lIns="90000" rIns="90000" tIns="0" bIns="0" anchor="b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ent pai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amming time [ms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eiv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me [ms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240">
                <a:tc>
                  <a:txBody>
                    <a:bodyPr lIns="90000" rIns="90000" tIns="0" bIns="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0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0" bIns="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4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17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0" bIns="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1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75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160">
                <a:tc>
                  <a:txBody>
                    <a:bodyPr lIns="90000" rIns="90000" tIns="0" bIns="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2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36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0" bIns="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8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81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0" bIns="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1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48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>
                  <a:txBody>
                    <a:bodyPr lIns="90000" rIns="90000" tIns="0" bIns="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6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13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8" name=""/>
          <p:cNvSpPr/>
          <p:nvPr/>
        </p:nvSpPr>
        <p:spPr>
          <a:xfrm>
            <a:off x="0" y="23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-76320" y="1371600"/>
          <a:ext cx="4648320" cy="3648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320" y="1371600"/>
                    <a:ext cx="4648320" cy="36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5000400"/>
            <a:ext cx="8609040" cy="16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32000" indent="-432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mming time almost “flat” / receiving practically lin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20,000 messages (100 Mbytes of data) processed (in 14 minu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Agent Relay-race (1)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609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ple compu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ach machine contains relay te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gents from the Main-Container go to the next machine and exchange messages to start the next group to move to the third machin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 la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rying number of machines and number of te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t Relay-race (2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532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number of teams / homogeneous / 4 Sun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762120" y="1911240"/>
          <a:ext cx="7619760" cy="509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11240"/>
                    <a:ext cx="7619760" cy="50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Agents in an E-shop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2292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oth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i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nd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i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C) to the s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oth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ho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enerat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ller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l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ie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e and report results of negot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other Clien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separate 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for 30, 40, …, 120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i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ener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ed to 1450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28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25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4495680" y="3733920"/>
          <a:ext cx="4800600" cy="3211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733920"/>
                    <a:ext cx="4800600" cy="32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4836960" y="1295280"/>
            <a:ext cx="4229280" cy="556272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4"/>
          <a:stretch/>
        </p:blipFill>
        <p:spPr>
          <a:xfrm>
            <a:off x="4572000" y="1104840"/>
            <a:ext cx="464832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487800"/>
            <a:ext cx="8535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610480" cy="52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3320" indent="-4633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1038240"/>
                <a:tab algn="l" pos="1952640"/>
                <a:tab algn="l" pos="2867040"/>
                <a:tab algn="l" pos="3781440"/>
                <a:tab algn="l" pos="4695840"/>
                <a:tab algn="l" pos="5610240"/>
                <a:tab algn="l" pos="6524640"/>
                <a:tab algn="l" pos="7439040"/>
                <a:tab algn="l" pos="8353440"/>
                <a:tab algn="l" pos="9267840"/>
                <a:tab algn="l" pos="1018224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</a:t>
            </a: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outda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rdware agent systems “scaled”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97120" indent="-4320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038240"/>
                <a:tab algn="l" pos="1952640"/>
                <a:tab algn="l" pos="2867040"/>
                <a:tab algn="l" pos="3781440"/>
                <a:tab algn="l" pos="4695840"/>
                <a:tab algn="l" pos="5610240"/>
                <a:tab algn="l" pos="6524640"/>
                <a:tab algn="l" pos="7439040"/>
                <a:tab algn="l" pos="8353440"/>
                <a:tab algn="l" pos="9267840"/>
                <a:tab algn="l" pos="1018224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00+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7120" indent="-4320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038240"/>
                <a:tab algn="l" pos="1952640"/>
                <a:tab algn="l" pos="2867040"/>
                <a:tab algn="l" pos="3781440"/>
                <a:tab algn="l" pos="4695840"/>
                <a:tab algn="l" pos="5610240"/>
                <a:tab algn="l" pos="6524640"/>
                <a:tab algn="l" pos="7439040"/>
                <a:tab algn="l" pos="8353440"/>
                <a:tab algn="l" pos="9267840"/>
                <a:tab algn="l" pos="1018224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20,000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3320" indent="-4633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1038240"/>
                <a:tab algn="l" pos="1952640"/>
                <a:tab algn="l" pos="2867040"/>
                <a:tab algn="l" pos="3781440"/>
                <a:tab algn="l" pos="4695840"/>
                <a:tab algn="l" pos="5610240"/>
                <a:tab algn="l" pos="6524640"/>
                <a:tab algn="l" pos="7439040"/>
                <a:tab algn="l" pos="8353440"/>
                <a:tab algn="l" pos="9267840"/>
                <a:tab algn="l" pos="1018224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lso did run 2000+ agents on better hard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3320" indent="-4633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1038240"/>
                <a:tab algn="l" pos="1952640"/>
                <a:tab algn="l" pos="2867040"/>
                <a:tab algn="l" pos="3781440"/>
                <a:tab algn="l" pos="4695840"/>
                <a:tab algn="l" pos="5610240"/>
                <a:tab algn="l" pos="6524640"/>
                <a:tab algn="l" pos="7439040"/>
                <a:tab algn="l" pos="8353440"/>
                <a:tab algn="l" pos="9267840"/>
                <a:tab algn="l" pos="1018224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“properties” scaled linea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3320" indent="-4633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1038240"/>
                <a:tab algn="l" pos="1952640"/>
                <a:tab algn="l" pos="2867040"/>
                <a:tab algn="l" pos="3781440"/>
                <a:tab algn="l" pos="4695840"/>
                <a:tab algn="l" pos="5610240"/>
                <a:tab algn="l" pos="6524640"/>
                <a:tab algn="l" pos="7439040"/>
                <a:tab algn="l" pos="8353440"/>
                <a:tab algn="l" pos="9267840"/>
                <a:tab algn="l" pos="1018224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strictions related to JADE but to computer hardware and network 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7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38240"/>
                <a:tab algn="l" pos="1952640"/>
                <a:tab algn="l" pos="2867040"/>
                <a:tab algn="l" pos="3781440"/>
                <a:tab algn="l" pos="4695840"/>
                <a:tab algn="l" pos="5610240"/>
                <a:tab algn="l" pos="6524640"/>
                <a:tab algn="l" pos="7439040"/>
                <a:tab algn="l" pos="8353440"/>
                <a:tab algn="l" pos="9267840"/>
                <a:tab algn="l" pos="101822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3320" indent="-4633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1038240"/>
                <a:tab algn="l" pos="1952640"/>
                <a:tab algn="l" pos="2867040"/>
                <a:tab algn="l" pos="3781440"/>
                <a:tab algn="l" pos="4695840"/>
                <a:tab algn="l" pos="5610240"/>
                <a:tab algn="l" pos="6524640"/>
                <a:tab algn="l" pos="7439040"/>
                <a:tab algn="l" pos="8353440"/>
                <a:tab algn="l" pos="9267840"/>
                <a:tab algn="l" pos="1018224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Large agent systems can be implement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286000" y="2259000"/>
            <a:ext cx="68580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7200" spc="-1" strike="noStrike">
                <a:solidFill>
                  <a:srgbClr val="b7e7ff"/>
                </a:solidFill>
                <a:latin typeface="Arial"/>
              </a:rPr>
              <a:t>End of Part I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455040"/>
            <a:ext cx="853452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t Technology Metaphors (2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610480" cy="53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gents as “effect” of software 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tive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ult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g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thodology for software cre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lex systems build out of interacting intelligent 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? using agent environment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nnings N. R. An agent-based approach for building complex software systems, CACM, 44 (4), 2001, 35-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895480" y="2057040"/>
            <a:ext cx="6858000" cy="21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Part II</a:t>
            </a:r>
            <a:br>
              <a:rPr sz="4400"/>
            </a:br>
            <a:r>
              <a:rPr b="0" lang="en-US" sz="4800" spc="-1" strike="noStrike">
                <a:solidFill>
                  <a:srgbClr val="b7e7ff"/>
                </a:solidFill>
                <a:latin typeface="Arial"/>
              </a:rPr>
              <a:t>Agent-based</a:t>
            </a:r>
            <a:br>
              <a:rPr sz="4800"/>
            </a:br>
            <a:r>
              <a:rPr b="0" lang="en-US" sz="4800" spc="-1" strike="noStrike">
                <a:solidFill>
                  <a:srgbClr val="b7e7ff"/>
                </a:solidFill>
                <a:latin typeface="Arial"/>
              </a:rPr>
              <a:t>E-commerce System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5440" cy="13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sumptions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76312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3200" indent="-2984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22360"/>
                <a:tab algn="l" pos="971640"/>
                <a:tab algn="l" pos="1420920"/>
                <a:tab algn="l" pos="1870200"/>
                <a:tab algn="l" pos="2319480"/>
                <a:tab algn="l" pos="2768760"/>
                <a:tab algn="l" pos="3218040"/>
                <a:tab algn="l" pos="3666960"/>
                <a:tab algn="l" pos="4116240"/>
                <a:tab algn="l" pos="4565520"/>
                <a:tab algn="l" pos="5014800"/>
                <a:tab algn="l" pos="5464080"/>
                <a:tab algn="l" pos="5913360"/>
                <a:tab algn="l" pos="6362640"/>
                <a:tab algn="l" pos="6811920"/>
                <a:tab algn="l" pos="7261200"/>
                <a:tab algn="l" pos="7710480"/>
                <a:tab algn="l" pos="8159760"/>
                <a:tab algn="l" pos="8609040"/>
                <a:tab algn="l" pos="9058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arketplace hosts e-shops and allows e-buyers to visit them and purchase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2602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522360"/>
                <a:tab algn="l" pos="971640"/>
                <a:tab algn="l" pos="1420920"/>
                <a:tab algn="l" pos="1870200"/>
                <a:tab algn="l" pos="2319480"/>
                <a:tab algn="l" pos="2768760"/>
                <a:tab algn="l" pos="3218040"/>
                <a:tab algn="l" pos="3666960"/>
                <a:tab algn="l" pos="4116240"/>
                <a:tab algn="l" pos="4565520"/>
                <a:tab algn="l" pos="5014800"/>
                <a:tab algn="l" pos="5464080"/>
                <a:tab algn="l" pos="5913360"/>
                <a:tab algn="l" pos="6362640"/>
                <a:tab algn="l" pos="6811920"/>
                <a:tab algn="l" pos="7261200"/>
                <a:tab algn="l" pos="7710480"/>
                <a:tab algn="l" pos="8159760"/>
                <a:tab algn="l" pos="8609040"/>
                <a:tab algn="l" pos="9058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yers negotiate prices with sell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2602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522360"/>
                <a:tab algn="l" pos="971640"/>
                <a:tab algn="l" pos="1420920"/>
                <a:tab algn="l" pos="1870200"/>
                <a:tab algn="l" pos="2319480"/>
                <a:tab algn="l" pos="2768760"/>
                <a:tab algn="l" pos="3218040"/>
                <a:tab algn="l" pos="3666960"/>
                <a:tab algn="l" pos="4116240"/>
                <a:tab algn="l" pos="4565520"/>
                <a:tab algn="l" pos="5014800"/>
                <a:tab algn="l" pos="5464080"/>
                <a:tab algn="l" pos="5913360"/>
                <a:tab algn="l" pos="6362640"/>
                <a:tab algn="l" pos="6811920"/>
                <a:tab algn="l" pos="7261200"/>
                <a:tab algn="l" pos="7710480"/>
                <a:tab algn="l" pos="8159760"/>
                <a:tab algn="l" pos="8609040"/>
                <a:tab algn="l" pos="9058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ents decide which store to buy f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3200" indent="-2984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22360"/>
                <a:tab algn="l" pos="971640"/>
                <a:tab algn="l" pos="1420920"/>
                <a:tab algn="l" pos="1870200"/>
                <a:tab algn="l" pos="2319480"/>
                <a:tab algn="l" pos="2768760"/>
                <a:tab algn="l" pos="3218040"/>
                <a:tab algn="l" pos="3666960"/>
                <a:tab algn="l" pos="4116240"/>
                <a:tab algn="l" pos="4565520"/>
                <a:tab algn="l" pos="5014800"/>
                <a:tab algn="l" pos="5464080"/>
                <a:tab algn="l" pos="5913360"/>
                <a:tab algn="l" pos="6362640"/>
                <a:tab algn="l" pos="6811920"/>
                <a:tab algn="l" pos="7261200"/>
                <a:tab algn="l" pos="7710480"/>
                <a:tab algn="l" pos="8159760"/>
                <a:tab algn="l" pos="8609040"/>
                <a:tab algn="l" pos="9058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260280">
              <a:lnSpc>
                <a:spcPct val="9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522360"/>
                <a:tab algn="l" pos="971640"/>
                <a:tab algn="l" pos="1420920"/>
                <a:tab algn="l" pos="1870200"/>
                <a:tab algn="l" pos="2319480"/>
                <a:tab algn="l" pos="2768760"/>
                <a:tab algn="l" pos="3218040"/>
                <a:tab algn="l" pos="3666960"/>
                <a:tab algn="l" pos="4116240"/>
                <a:tab algn="l" pos="4565520"/>
                <a:tab algn="l" pos="5014800"/>
                <a:tab algn="l" pos="5464080"/>
                <a:tab algn="l" pos="5913360"/>
                <a:tab algn="l" pos="6362640"/>
                <a:tab algn="l" pos="6811920"/>
                <a:tab algn="l" pos="7261200"/>
                <a:tab algn="l" pos="7710480"/>
                <a:tab algn="l" pos="8159760"/>
                <a:tab algn="l" pos="8609040"/>
                <a:tab algn="l" pos="9058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complete system skeleto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l agent functions and agent interactions implemented (agent goal; proof of concept; n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260280">
              <a:lnSpc>
                <a:spcPct val="9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522360"/>
                <a:tab algn="l" pos="971640"/>
                <a:tab algn="l" pos="1420920"/>
                <a:tab algn="l" pos="1870200"/>
                <a:tab algn="l" pos="2319480"/>
                <a:tab algn="l" pos="2768760"/>
                <a:tab algn="l" pos="3218040"/>
                <a:tab algn="l" pos="3666960"/>
                <a:tab algn="l" pos="4116240"/>
                <a:tab algn="l" pos="4565520"/>
                <a:tab algn="l" pos="5014800"/>
                <a:tab algn="l" pos="5464080"/>
                <a:tab algn="l" pos="5913360"/>
                <a:tab algn="l" pos="6362640"/>
                <a:tab algn="l" pos="6811920"/>
                <a:tab algn="l" pos="7261200"/>
                <a:tab algn="l" pos="7710480"/>
                <a:tab algn="l" pos="8159760"/>
                <a:tab algn="l" pos="8609040"/>
                <a:tab algn="l" pos="9058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simulation tool (long-ter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680" y="537840"/>
            <a:ext cx="85104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's different (1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680" y="1260000"/>
            <a:ext cx="8842320" cy="52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97440" indent="-2937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tems of a product placed for sale one after another 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ries of price negot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7440" indent="-2937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tems sol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ice negotiations are organized differentl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“discrete process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4760" indent="-2685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yer Agents (BA) “collected” and released in groups to participate in negoti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24760" indent="-2685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ile negotiation takes place BA’s communicate only with the Seller Agent (Se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24760" indent="-2685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anwhile next group of BA’s is collected (as they arrive) and will participate in the next negoti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's different (2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609040" cy="55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6880" indent="-3268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subsequent auctions (involving items of the same product) take plac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ice negotiation mechanism can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of a complete e-commerc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ons that take place before negot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ons that take place after negot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log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ents choose shop from which to make a purchas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“airline reservation”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672840"/>
            <a:ext cx="8537400" cy="33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 case of the syste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0" y="1260360"/>
            <a:ext cx="9144000" cy="533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719360" y="2865240"/>
            <a:ext cx="7805520" cy="10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956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75880"/>
                <a:tab algn="l" pos="9425160"/>
                <a:tab algn="l" pos="9874080"/>
                <a:tab algn="l" pos="10323360"/>
                <a:tab algn="l" pos="10779120"/>
                <a:tab algn="l" pos="10780560"/>
                <a:tab algn="l" pos="10782360"/>
              </a:tabLst>
            </a:pPr>
            <a:r>
              <a:rPr b="0" lang="en-US" sz="7200" spc="-1" strike="noStrike">
                <a:solidFill>
                  <a:srgbClr val="b7e7ff"/>
                </a:solidFill>
                <a:latin typeface="Arial"/>
              </a:rPr>
              <a:t>End of Part II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895120" y="2177640"/>
            <a:ext cx="7086600" cy="21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Part III</a:t>
            </a:r>
            <a:br>
              <a:rPr sz="4400"/>
            </a:br>
            <a:r>
              <a:rPr b="0" lang="en-US" sz="4800" spc="-1" strike="noStrike">
                <a:solidFill>
                  <a:srgbClr val="b7e7ff"/>
                </a:solidFill>
                <a:latin typeface="Arial"/>
              </a:rPr>
              <a:t>Agent-based Travel Support System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-commer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60904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limited” time and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clients worldw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24-7-365 with limited over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limited” commodity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shop agglomerations (i.e. Z-sho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ty products for small groups of custo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most unlimited information about 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hering information about the 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er fulfillment of client’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ledge about clients and client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ying and responding to current tre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make available data usab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-commerce system – client inte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it sourc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ll a lot to an individual client (not – sell a lot of a given product to all client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justment of the offered commodities to client prefe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ggestions based on these prefe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posed Travel Support Syste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609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mposition of functionalit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g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thing is an a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omething is not an agent (e.g. expert system, database, etc.) it will be wrapped in an agent or interfaced via an a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 derived from trusted sources and supplemented by Internet-based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tological orientation of representation of data in th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 personalization as an overarching concern during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609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vel support syste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radigmatic case of agent system design and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many positive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CRUP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nts combined with other techn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DF demarcated data as the centerpie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gathering rather than index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avail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n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n-agent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t Technology (3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609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ag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-agen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J. Liu, 2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cellular automata / “an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behavior (no intellige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ligence”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mergent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ular automat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Olga Bandman – Novosibirs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odied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-robot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robo-socc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nts in modeling and sim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ing social interaction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Hexmoor, 200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ing crowd behavi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Bandini, PACT, 200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488160"/>
            <a:ext cx="8535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ystem Top-level Overview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6104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304920" y="1271520"/>
            <a:ext cx="8839080" cy="558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609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91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971440" y="1828800"/>
            <a:ext cx="6018120" cy="22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7200" spc="-1" strike="noStrike">
                <a:solidFill>
                  <a:srgbClr val="b7e7ff"/>
                </a:solidFill>
                <a:latin typeface="Arial"/>
              </a:rPr>
              <a:t>End of Part III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971440" y="1828800"/>
            <a:ext cx="6018120" cy="22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600" spc="-1" strike="noStrike">
                <a:solidFill>
                  <a:srgbClr val="b7e7ff"/>
                </a:solidFill>
                <a:latin typeface="Arial"/>
              </a:rPr>
              <a:t>Part IV</a:t>
            </a:r>
            <a:br>
              <a:rPr sz="6600"/>
            </a:br>
            <a:r>
              <a:rPr b="0" lang="en-US" sz="6600" spc="-1" strike="noStrike">
                <a:solidFill>
                  <a:srgbClr val="b7e7ff"/>
                </a:solidFill>
                <a:latin typeface="Arial"/>
              </a:rPr>
              <a:t>Agents in Grids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ts in grids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93840"/>
            <a:ext cx="8609040" cy="55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6880" indent="-32688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Di Martino and O. R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0000">
              <a:lnSpc>
                <a:spcPct val="9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c and mobile agents in the system (MAGD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0000">
              <a:lnSpc>
                <a:spcPct val="9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gent visits sites to find resources (servi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its based on exchanges of messages with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utes a task or a part of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0000">
              <a:lnSpc>
                <a:spcPct val="9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LETS-based / no economic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Prasad et.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0000">
              <a:lnSpc>
                <a:spcPct val="9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empt at adding economic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0000">
              <a:lnSpc>
                <a:spcPct val="9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ngl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nt moves, negotiates, exec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0000">
              <a:lnSpc>
                <a:spcPct val="9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based on mo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293840"/>
            <a:ext cx="8609040" cy="55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8320" indent="-59832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bility can be cos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8320" indent="-59832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resource provid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fficult to assure QOS / S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8320" indent="-59832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gener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9560" indent="-522360">
              <a:lnSpc>
                <a:spcPct val="9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id is expected to be very dynam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s appear and disapp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-loads change “fas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9560" indent="-522360">
              <a:lnSpc>
                <a:spcPct val="9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nomic model is necess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8320" indent="-59832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ed soluti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gent t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93840"/>
            <a:ext cx="8609040" cy="55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6880" indent="-32688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nts work in t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team has a team leader (local master –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mas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ing workers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lav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can join any team based on their criteria of jo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ms can accept workers based on their own criteria of accep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la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(if needed) play role of 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ma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sions about joining and accepting will utilize  multi-criterial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llow-page method for matchmaking (provided by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gent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ther approaches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661680"/>
            <a:ext cx="8535960" cy="3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 case diagram of the syste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320" y="1163520"/>
            <a:ext cx="8762760" cy="5770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828800" y="2666160"/>
            <a:ext cx="7772400" cy="10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956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75880"/>
                <a:tab algn="l" pos="9425160"/>
                <a:tab algn="l" pos="9874080"/>
                <a:tab algn="l" pos="10323360"/>
                <a:tab algn="l" pos="10779120"/>
                <a:tab algn="l" pos="10780560"/>
                <a:tab algn="l" pos="10782360"/>
              </a:tabLst>
            </a:pPr>
            <a:r>
              <a:rPr b="0" lang="en-US" sz="7200" spc="-1" strike="noStrike">
                <a:solidFill>
                  <a:srgbClr val="b7e7ff"/>
                </a:solidFill>
                <a:latin typeface="Arial"/>
              </a:rPr>
              <a:t>End of PART IV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52000"/>
            <a:ext cx="8229600" cy="109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6600" spc="-1" strike="noStrike">
                <a:solidFill>
                  <a:srgbClr val="cc0066"/>
                </a:solidFill>
                <a:latin typeface="Arial"/>
              </a:rPr>
              <a:t>THE END!!!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610480" cy="53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376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76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agentlab.swps.edu.p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t Definition (1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609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ything that can be viewed as perceiving its environment through sensors and acting upon that environment through effecto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ussell and Norvig, 199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oftware entities that carry out some set of operations on behalf of a user or another program with some degree of independence or autonomy, and in so doing, employ some knowledge or representation of the user’s goals or desi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BM, 199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t Definition (2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609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nomous system situated in a dynamical environment acting independently of its restrictions and fulfilling in it a set of goals or directives for which it was crea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aes, 199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 encapsulated computer system that is situated in some environment and that is capable of flexible action in that environment in order to meet its design objectiv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Jennings et al, 2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mo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or no definition at all; e.g. Liu)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t Definition (3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227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atures of software ag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ility to commun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y for co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soning based on collected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y for reas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lig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36960" y="2209320"/>
            <a:ext cx="4229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ac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ori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iendliness and reli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n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uated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cin Paprzycki</cp:lastModifiedBy>
  <dcterms:modified xsi:type="dcterms:W3CDTF">2007-02-26T10:45:24Z</dcterms:modified>
  <cp:revision>51</cp:revision>
  <dc:subject/>
  <dc:title>Software Agents and Applications Play in IV Parts</dc:title>
</cp:coreProperties>
</file>